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D24-5594-41D9-863A-682F2A0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4FE-371A-4E2C-960F-16B4193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7B0-EAFE-4405-B184-C372EFB8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025-41D4-49ED-92C5-F9E5D401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3C7-97B5-45D5-8044-5183F560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6BC-10DE-4B59-A218-7527104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8C5-A92E-408D-9139-0807211A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A2C-0235-466D-809A-BF6E6749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E5B-F9C0-4D39-88E7-A1538BFB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EF5-7443-49FD-90C6-410259D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CC0-5693-45AA-BC51-231AF41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49F-1953-42BC-94FA-9AD0FB1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321-F66C-490A-8A84-B68B85C02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ceagenow.com/index_files/image001.jpg&amp;imgrefurl=http://www.iceagenow.com/&amp;h=353&amp;w=635&amp;sz=23&amp;hl=en&amp;start=8&amp;tbnid=lVZcRDPrtulPEM:&amp;tbnh=76&amp;tbnw=137&amp;prev=/images%3Fq%3Dice%2Bage%26svnum%3D10%26hl%3Den%26lr%3D%26safe%3Dactiv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larvoyager.com/images/art/Greenland%20Meteor%20by%20Don%20Dix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avidreilly.com/dodo/images/gallery/engraving_of_dodo11534121.jpg&amp;imgrefurl=http://www.davidreilly.com/dodo/gallery.html&amp;h=480&amp;w=605&amp;sz=57&amp;hl=en&amp;start=4&amp;tbnid=nVr1_PpSBMGVNM:&amp;tbnh=107&amp;tbnw=135&amp;prev=/images%3Fq%3Ddodo%26svnum%3D10%26hl%3Den%26lr%3D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 as a d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all this about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many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predator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disease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276640"/>
            <a:ext cx="4176720" cy="231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47640" y="2205000"/>
            <a:ext cx="6048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L.Es (ell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.L.Es (ell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leve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590920"/>
            <a:ext cx="2664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0600" y="966960"/>
            <a:ext cx="656280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 ar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stralian brown tree snake was imported to Guam after world war 2, by the 1960s lots of species of bird were becoming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5370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any other ways that a new predator could get introduced into an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any other ways that a new predator could get introduced into an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03640" y="3716280"/>
            <a:ext cx="3324240" cy="2048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3333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267160" cy="3816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manian devil of New Zealand is dying of a new form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might give one animal a big advantage over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s many extinct animals as you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205000"/>
            <a:ext cx="26593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QA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ge 115 – answer qs 1, 2 &amp;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change’, ‘Meteorite’, ‘Predators’, ‘Disease’ and ‘Competitio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se in order of 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dy to explain you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species are still a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ch of these letters represents 1 million species and there are 4000 of them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There are 2 million species alive, identified and n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There are between 5-100 million species alive but un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ff00"/>
                </a:solidFill>
                <a:latin typeface="Arial"/>
              </a:rPr>
              <a:t>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t are extin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a</a:t>
            </a:r>
            <a:r>
              <a:rPr b="0" lang="en-GB" sz="1200" spc="-1" strike="noStrike">
                <a:solidFill>
                  <a:srgbClr val="00ff00"/>
                </a:solidFill>
                <a:latin typeface="Arial"/>
              </a:rPr>
              <a:t>aaaaaaaaaaaaaaaaaaaaaaaaaaaaaaaaaaaaaaaaaaaaaaaaaaaaaaaaaaaaaaaaaaaaaaaaaaaaaaaaaaaaaaaaaaaaaaaaaaaaaaaaaaaaaaaa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all the species which have ever existed, 99.9 % are now extinct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658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it’s getting 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ut a thousand years ago, species became extinct at the rate of about 3 every hundred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w  losing species every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plant and animal species are emerging, University of Minnesota ecology professor David Tilman says, but not nearly fast enough to make up for the toll caused by human acti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That's sort of a 1 million to 4 million year process, and yet we are causing species to be lost at rates of 100 to 1000 times faster," he 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exti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2:19:30Z</dcterms:created>
  <dc:creator>sthobbsc</dc:creator>
  <dc:description/>
  <dc:language>en-US</dc:language>
  <cp:lastModifiedBy>sthobbsc</cp:lastModifiedBy>
  <dcterms:modified xsi:type="dcterms:W3CDTF">2007-02-05T10:18:54Z</dcterms:modified>
  <cp:revision>3</cp:revision>
  <dc:subject/>
  <dc:title>Dead as a dodo</dc:title>
</cp:coreProperties>
</file>